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8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5F67-C456-494F-9510-1B145E53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BE69-AFF2-4E09-8A05-48143CEB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A2371-0C15-4E8A-B408-07CF1349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152FA-8F5F-4E57-988F-395A5A29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01A6E-A93D-47F1-8042-052D2029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7A611-F52D-4345-A9E3-5A87F982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5282A-60EB-4F21-8E03-5264348B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18AAA-A5EB-4AE9-A7F9-90BFE66E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A5785-67C6-4342-B4EB-C66514C9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0140E-1D6E-4076-88F3-72CC0E42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D62AC-2C98-4819-94B0-7AF718B5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E3A0B-5B77-4709-9877-17364C86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D3BD-A368-4B1A-A761-4129CC1B4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4FA36-5CAB-44D0-A54B-B55D26C1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DB0D1-24F7-45BB-9BCE-4AABB3D3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EC6B3-C7EC-496A-9917-320C31C3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E2567-BB5D-4459-A7BC-ACA41365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30629-E3B5-4211-8738-6FFE3647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37D3F-EDC3-4D08-BB6C-5400388E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1E079-FDC1-4D41-91C7-481026FB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402F2-AEF0-42B3-BF54-408C2502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54879-4F02-4948-9462-2978E830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1B9E8-1F99-460E-8F0E-FE042437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773D-6C19-4AFB-98E9-5D16160A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DCAC7-AF1E-4BEE-9E24-9DA06A5B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771E-C5AE-4D61-92A8-8509426E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B39F-CA05-4968-B493-478B256F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7D94-5A6E-4CE1-A090-1DAE8345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89FE-FCB4-406C-91BC-28372C6E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0E23-14BB-43D7-816D-B2E8AA2A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4C50-4DD8-4259-B443-363C2339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C08A-6018-4275-9798-BC6365E6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C82B-946C-4CDD-ADB6-17B82241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9380-1F4B-4153-83DF-31E2805B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FDF8-13E1-4703-BD96-1157C63B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DF89-4698-4788-900F-E7241348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63DB-8E9B-4E0D-B5D9-BF27F627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0893-1150-4042-9099-FEEB92CF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E8B97-0AF3-49EE-A1AF-5E0FF8A1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A845F-9E81-4967-B0BC-D028F6C8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17658-D0E1-4519-80E3-68292F9B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366DF-3C52-428F-A61A-6B14EBD1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120BD-9D37-440D-A800-8D7EF252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7440-34D3-49C7-ADB9-E874FB3A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7467A-A764-468B-BB8D-C2216CFE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83760-6AC6-4986-B755-3D75FF04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B57C4-3892-4C00-8076-997121A3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8031C-C704-489D-922C-28D8DB2E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E247F-D584-4A11-87D6-99F81361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AD644-E456-4158-9285-1340107E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B5E01-30F2-4282-9F89-8625803B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A2FD86-0C5B-48F2-821C-B2B81308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4472DB-278E-42C6-BAA8-AD74D221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C31C37-1CBF-4F43-B039-70B946B6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48E2-0D03-4301-A344-D822A424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F35E42-9ED1-4451-9EDA-45A2EAA3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429B34-E870-4476-8750-B5B9EE81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BFA9D2-2356-44EC-953E-DBAC6671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36F15C-4D7F-444D-936B-2999F315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2E962C-04BF-49C3-A1C7-B3547609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7D1B71-ED1E-4AE3-BEB0-74797D6D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50AD68-829F-426C-AB25-7394DE3F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2D4E83-A479-4E1E-A1B1-38A6F040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7C8840-ADF4-4ED0-AD7B-246695E9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32AA5-0274-48B7-A4A7-7BA40069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4E8D-1060-4B9F-BBDA-AF42EE48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0F3B1-42D1-4055-89BD-1878D37F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7D730-C1AD-4ADA-B534-595445A8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0CF71-273A-4313-B398-27C5E4E2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8CE05-7B7F-4962-8379-28545B47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005DE-D349-40AA-943E-51FDF984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B3FA5-2416-4087-BB7F-5E86909D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A0C38-BC34-4ACA-AF09-ACB9CB78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AE03D-396F-41D9-8BB0-01E1AC90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80E44-D1EF-46BA-83B8-74700779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F927A-B7BE-4D98-93B3-BF00B446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F814-9797-4C38-9607-7D3954E5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5C2DC-7E29-4612-A43E-EFE499E9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B10FD-8058-4300-A2AE-06A07399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66583-CC47-46D4-94E6-87F4EA0B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E1A8A-033B-4616-9479-B512DFBB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33853-C9E1-40A1-8047-4C9511C3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B5F87-8C96-4DBD-8A4E-8C684617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ECBF4-11BA-4319-82BE-9553DC3C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AAC00-2F02-49E8-A4B3-E38608B7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BE9B3-59CA-4FD7-B98E-10D7A04B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9EE01-8016-4720-A556-403BAFB0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776B-4335-4455-9809-27154722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4ACCA-779B-4C82-B25F-45377865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73662-00E6-4BA3-B809-89B59538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DBB02-F4B3-4BC7-A931-8D57BE02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0E7F1-3431-4288-A5A5-8EF5739E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C5BAE-539B-40B4-ABF0-A69D8641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42163-55E7-44D0-8A2F-E87D3088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F2752-384D-4C9A-BE20-F7A49D2E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758DA-1748-402E-B985-3FBF6F83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72AE1-72F0-4B98-AF72-92F6D0C6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05574-3677-4271-9CA3-5C65D534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85B4-06B0-497D-A55C-CD56416F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DEECC-45D4-47F2-97A4-335AE522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B8405-C5C5-47F3-89EF-22567AC3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BA632-9EA3-4FEB-8916-A1B316AD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BF875-7A9A-438B-872E-60940583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8009F-0715-4B8D-BAEF-C83CB5BF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30C6E-259A-4CD5-854E-B8228A4B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389F0-F013-44D5-BBA8-16BF17DF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77147-3346-4131-907E-76C0BA8D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B8243-7B02-48BB-A3F9-9B23E1D1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9C380-9069-496B-BBF6-A759B36C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83BE-A383-4176-B54D-B7D17033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3370B-FAFE-44FC-BD9E-FFF792CC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56587-95CF-4685-8CBA-9B9C4480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402A0-4F1D-41BA-9545-04B04622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A2F73-7421-47FE-91DB-0F0475F7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C5375-8B42-4FB4-9925-8252AF71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8227D-06EB-41A2-974D-8E665D9C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C36C0-8041-4190-8945-9EE44729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F7A74-63EB-49AD-9A62-ED5DB76A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99B4D-F021-4F4B-8722-0159D782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20263-2184-4FBD-966B-27024E82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D125-BBCA-4C7A-9C6B-B983665F73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9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9CFC-F4CE-4947-BA34-5643F93B16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8683-CB7B-4BB0-A91C-F97D556449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FE4A-C59E-490E-8EF9-63F6BAC1E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349F-2D1C-43AA-AFE6-342BCD8E0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7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35D6-A2AC-4676-BB11-39738B3F6D3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3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373A-0DFE-44BB-B9CB-ED195654A1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8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0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7505-5836-4C21-B4BF-565B91204E7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6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8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8685-366A-423E-ACD0-DB22B2FA461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4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9283-D1DA-4988-BFEF-30DF5725F6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403280" y="573408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826920" y="836640"/>
            <a:ext cx="7274160" cy="330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Қазақтың ұлттық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йындар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7d47d"/>
                </a:solidFill>
                <a:latin typeface="Arial"/>
              </a:rPr>
              <a:t>                     </a:t>
            </a:r>
            <a:r>
              <a:rPr b="1" i="1" lang="kk-KZ" sz="7200" spc="-1" strike="noStrike">
                <a:solidFill>
                  <a:srgbClr val="f7d47d"/>
                </a:solidFill>
                <a:latin typeface="Arial"/>
              </a:rPr>
              <a:t>Омпы</a:t>
            </a:r>
            <a:endParaRPr b="0" lang="en-US" sz="7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5256360" cy="5661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i="1" lang="kk-KZ" sz="6600" spc="-1" strike="noStrike">
                <a:solidFill>
                  <a:srgbClr val="ffffff"/>
                </a:solidFill>
                <a:latin typeface="Tahoma"/>
              </a:rPr>
              <a:t>Атбақыл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2484360" y="1773360"/>
            <a:ext cx="3743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1116000" y="1390680"/>
            <a:ext cx="71280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60036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57336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4427640" cy="328464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4"/>
          <a:stretch/>
        </p:blipFill>
        <p:spPr>
          <a:xfrm>
            <a:off x="4427640" y="3532320"/>
            <a:ext cx="471636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Arial"/>
              </a:rPr>
              <a:t>Сөзді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Қой сүйегі - положение альчик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Үйіру - сбрасыват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Ұпай - очк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Кезек - очеред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Тимей қалса - если не попаде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Қос–уыс - пригорошн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Қозғап кетсе  - если сдвине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Басқа асыққа соғылса - если заденет другой альчик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Бір-біріне тимесе - если не попадет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Arial"/>
              </a:rPr>
              <a:t>Кестемен жұмыс істейді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1645920"/>
                <a:gridCol w="1645920"/>
                <a:gridCol w="1645560"/>
                <a:gridCol w="1645920"/>
                <a:gridCol w="1645920"/>
              </a:tblGrid>
              <a:tr h="45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Балалар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ан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сық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ан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Боялған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сық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сықтың түр түрінен айтылуы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йынның бұзылуы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4" name=""/>
          <p:cNvSpPr/>
          <p:nvPr/>
        </p:nvSpPr>
        <p:spPr>
          <a:xfrm>
            <a:off x="468360" y="2205000"/>
            <a:ext cx="8207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11280" y="2565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4-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26836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10 -1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924360" y="25574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Хан - 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435640" y="2205000"/>
            <a:ext cx="158436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Ш</a:t>
            </a: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ік шігімен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Бүк бүгіме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Тәйке тәйкеме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Алшы алшыме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164360" y="234936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164360" y="22766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020000" y="2276640"/>
            <a:ext cx="16556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Басқа асыққа соғылс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Бір біріне тимес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Басқа асықты қозғап кетс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Arial"/>
              </a:rPr>
              <a:t>Үй тапсырмас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kk-KZ" sz="2800" spc="-1" strike="noStrike">
                <a:solidFill>
                  <a:srgbClr val="eaeaea"/>
                </a:solidFill>
                <a:latin typeface="Courier New"/>
              </a:rPr>
              <a:t>90 бетте мәтінді оқып, әңгімелеу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2400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09:33:07Z</dcterms:created>
  <dc:creator>Admin</dc:creator>
  <dc:description/>
  <dc:language>en-US</dc:language>
  <cp:lastModifiedBy>13</cp:lastModifiedBy>
  <dcterms:modified xsi:type="dcterms:W3CDTF">2009-02-05T08:47:53Z</dcterms:modified>
  <cp:revision>6</cp:revision>
  <dc:subject/>
  <dc:title>Қазақ ұлттық  ойындары.</dc:title>
</cp:coreProperties>
</file>